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F43-2670-4B10-B3DB-903BC2D5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657-CD4B-4B32-8E72-0BDE355C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CC0-A8DA-4509-A896-2D74617A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05D-886D-48E6-9314-67EC603F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FC5-6C1F-4FC6-9988-FA6B8EB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5E6-90D5-4445-A39F-F0E22E58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E7A-A8A7-4D5E-9DF8-483580DB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26B-A043-4A21-BB75-0ABB2CC0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9D8-944A-4A69-963F-83A22B7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BAE-2929-4B85-9E4B-71197BC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759-9C2C-4A31-8D37-8ACEB44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BBB-ADC9-42E9-B2C4-B29DF9A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BFD-199C-46C0-89A2-4D37B4E7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/missouri/" TargetMode="External"/><Relationship Id="rId2" Type="http://schemas.openxmlformats.org/officeDocument/2006/relationships/hyperlink" Target="http://www.enchantedlearning.com/subjects/birds/printouts/Easternbluebird.s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missouri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48006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71800">
            <a:off x="760320" y="1177560"/>
            <a:ext cx="662616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ssouri</a:t>
            </a:r>
            <a:endParaRPr b="0" lang="en-US" sz="40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88159E-006 L -0.74618 0.8587 L -0.75087 0.60662 L -0.6217 0.17831 L -0.44931 0.8217 L -0.25694 0.52267 L -0.59722 0.14339 L -0.83854 0.36888 L -0.12934 0.07586 L -0.17552 0.5717 L -0.26319 0.82586 L -0.58316 0.79904 L -0.6908 0.58211 L -0.29861 0.19682 L -3.05556E-006 7.88159E-006 Z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6411E-006 L 0.1276 -0.03677 L 0.18454 -0.04903 L 0.28611 0.0636 L 0.36145 0.03076 L 0.43211 0.0185 L 0.5 0.00625 L 0.55989 -0.00809 L 0.60746 -0.02035 L 0.63993 -0.02659 L 0.66145 -0.16582 L 0.79843 -0.21091 L 0.86597 0.24815 L 0.71684 0.21323 L 0.63993 0.2359 L 0.60156 0.23775 L 0.5585 0.26249 L 0.47222 0.28469 L 0.38003 0.31129 L 0.29392 0.32586 L 0.22448 0.32979 L 0.17083 0.34829 L 0.1092 0.35662 L 0.05382 0.38136 L 0.03854 0.47318 L -0.03855 -0.00809 L 0 -4.76411E-006 Z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Capital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 –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Jefferson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Populat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5,595,2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Entered the Un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9/10/18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Number of the Un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d2d2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cd2d2"/>
                </a:solidFill>
                <a:uFillTx/>
                <a:latin typeface="SimSun"/>
              </a:rPr>
              <a:t>Motto – The Welfare of the People Shall be the Suprem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d2d2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cd2d2"/>
                </a:solidFill>
                <a:uFillTx/>
                <a:latin typeface="SimSun"/>
              </a:rPr>
              <a:t>Nickname – The Show M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304920" y="33526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3526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. Louis Arch, 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10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077 0.84644 L 0.86927 0.84228 L 0.85694 0 L 0 0 Z">
                                      <p:cBhvr>
                                        <p:cTn id="11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077 0.84644 L 0.86927 0.84228 L 0.85694 0 L 0 0 Z">
                                      <p:cBhvr>
                                        <p:cTn id="1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2.13873E-006 L 0.22535 -2.13873E-006 L 0.45087 -2.13873E-006 L 0.45087 0.19885 L 0.44757 0.39746 L 0.22865 0.39746 L 0.00157 0.39746 L -0.00312 0.20093 L 0.22379 -0.04231 L -2.77556E-017 -2.13873E-006 Z">
                                      <p:cBhvr>
                                        <p:cTn id="1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imSun"/>
              </a:rPr>
              <a:t>State Flower – Hawthorn (crataeg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cc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SimSun"/>
              </a:rPr>
              <a:t>Song – Missouri Waltz, Words by : J. R. Shannon, Music by : John V. Ep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gency FB"/>
              </a:rPr>
              <a:t>State Bird – Blue B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19112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1954800">
            <a:off x="2743200" y="510516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ddle"/>
          <p:cNvPicPr/>
          <p:nvPr/>
        </p:nvPicPr>
        <p:blipFill>
          <a:blip r:embed="rId4"/>
          <a:stretch/>
        </p:blipFill>
        <p:spPr>
          <a:xfrm>
            <a:off x="4419720" y="3124080"/>
            <a:ext cx="1371600" cy="7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6337E-006 L -0.15834 -0.08395 L -0.15677 -0.11887 L -0.37535 -0.25208 L -0.38455 -0.29093 L -0.36302 -0.49375 L 0.05538 -0.32377 L 0.05538 -0.36887 L -0.38143 -0.53469 L -0.3783 -0.57585 L -0.38299 -0.67206 L -0.37986 -0.71114 L -0.37986 -0.74583 L -0.32761 -0.71508 L -0.3323 -0.53284 L -0.13837 -0.52243 L 0.07395 -0.71299 L 0.51076 -0.43848 L 0.50781 -0.41188 L -0.13681 -0.32978 L -0.13993 -0.41397 L -0.21528 -0.4364 L -0.21372 -0.4179 L -0.33681 -0.23566 L -0.03837 0.0451 E">
                                      <p:cBhvr>
                                        <p:cTn id="20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State Mineral –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Harry Truman’s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Daniel Boone’s Home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Missouri: Map and State Flag"/>
          <p:cNvPicPr/>
          <p:nvPr/>
        </p:nvPicPr>
        <p:blipFill>
          <a:blip r:embed="rId1"/>
          <a:srcRect l="2781" t="0" r="2781" b="65066"/>
          <a:stretch/>
        </p:blipFill>
        <p:spPr>
          <a:xfrm>
            <a:off x="1219320" y="762120"/>
            <a:ext cx="259056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91120" y="838080"/>
            <a:ext cx="4419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: 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missour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2606760"/>
            <a:ext cx="3809880" cy="339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297180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1480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Jewel Box, Forest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2011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10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ll images Copyright © 1997 - 2000 WriteLine. All Rights Reserved. conservatory"/>
          <p:cNvPicPr/>
          <p:nvPr/>
        </p:nvPicPr>
        <p:blipFill>
          <a:blip r:embed="rId1"/>
          <a:stretch/>
        </p:blipFill>
        <p:spPr>
          <a:xfrm>
            <a:off x="304920" y="1219320"/>
            <a:ext cx="8076960" cy="5384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true beauty of Missouri! This shows us Nature’s G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51Z</dcterms:created>
  <dc:creator>install</dc:creator>
  <dc:description/>
  <dc:language>en-US</dc:language>
  <cp:lastModifiedBy>install</cp:lastModifiedBy>
  <dcterms:modified xsi:type="dcterms:W3CDTF">2011-03-16T15:55:26Z</dcterms:modified>
  <cp:revision>15</cp:revision>
  <dc:subject/>
  <dc:title>Slide 1</dc:title>
</cp:coreProperties>
</file>